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1.png" ContentType="image/png"/>
  <Override PartName="/ppt/media/image99.wmf" ContentType="image/x-wmf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48.png" ContentType="image/png"/>
  <Override PartName="/ppt/media/image11.png" ContentType="image/png"/>
  <Override PartName="/ppt/media/image40.png" ContentType="image/png"/>
  <Override PartName="/ppt/media/image32.png" ContentType="image/png"/>
  <Override PartName="/ppt/media/image93.jpeg" ContentType="image/jpeg"/>
  <Override PartName="/ppt/media/image64.png" ContentType="image/png"/>
  <Override PartName="/ppt/media/image65.png" ContentType="image/png"/>
  <Override PartName="/ppt/media/image67.png" ContentType="image/png"/>
  <Override PartName="/ppt/media/image6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72.png" ContentType="image/png"/>
  <Override PartName="/ppt/media/image74.png" ContentType="image/png"/>
  <Override PartName="/ppt/media/image75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3.png" ContentType="image/png"/>
  <Override PartName="/ppt/media/image87.jpeg" ContentType="image/jpeg"/>
  <Override PartName="/ppt/media/image18.png" ContentType="image/png"/>
  <Override PartName="/ppt/media/image83.png" ContentType="image/png"/>
  <Override PartName="/ppt/media/image76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86.wmf" ContentType="image/x-wmf"/>
  <Override PartName="/ppt/media/image79.png" ContentType="image/png"/>
  <Override PartName="/ppt/media/image78.png" ContentType="image/png"/>
  <Override PartName="/ppt/media/image13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9.png" ContentType="image/png"/>
  <Override PartName="/ppt/media/image8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0.png" ContentType="image/png"/>
  <Override PartName="/ppt/media/image57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717-33B6-4FBD-8BF9-CD1E4467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CE5-F621-4EB7-B8AA-03145EF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1BA-C2FF-4B07-8B1B-A0E14770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2A7-D886-49C0-80AD-78E057B8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8369-9FD9-48E3-90B0-CA89EA6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E663-7FAF-4FB1-B9D5-F4D54325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06BC-5658-4C4E-99EA-EE897B0B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1BAA-829B-4620-B7F5-54C7A6D3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22BB-7E8A-44BA-84AE-9737C8C2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74CE-A48C-4B0C-B0DC-48792AC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EDB6-DF1E-4516-937E-C9957EC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2AE-9E8B-4FBA-A778-D0342B3C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AA2C-0200-46A9-BD31-5722D5B3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DAA8-84CE-438A-A3D3-4EECAC4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1D4A-5F0F-4329-96AC-22340C1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A7B9-6CD1-4BCF-BEAC-23C0E784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38E2-13A8-4B21-8718-E30BFCB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7C1A-5BB2-4DD8-A404-BA837476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1838-B306-4BC5-9D91-644461D5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5220-523A-4128-B757-2F17D532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928B-E964-43F6-BBD6-96B4D6E5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5BD8-9FD0-4531-A642-5E20BEB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ACD-3CFB-4F35-88A5-6468FAFC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7138-6FE0-439D-B040-AA83678F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16B8-45A6-425B-AFCA-9621356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1E50-CE5E-43C6-9A92-E28FDE39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8722-08A4-43A1-A375-54F5A3C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2183-730C-4D8D-9A3D-4E96A713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EFA0-6728-44B3-A1C3-30BAB7B8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428C-1499-4E03-AEB8-E3968A98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9E07-0751-433C-B3FA-421F9971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0247E-2E63-46EC-AEBC-AED50E5E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848AA-1A97-4F6D-B6E8-14A0B292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023-E977-491B-8150-FE7DF508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A295-8674-46C0-9EC0-3423C980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8B30-E249-4606-B827-3693FD8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B6E7-B2D4-4BE9-9107-B32C145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F20C-876C-4232-A263-EC252E6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A585-C5C7-4B85-93AE-41A834E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CA75-1884-46D1-A932-A3B63F7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76B2-D528-41AD-8651-EF64C84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C5658-DBA8-450B-ACC7-1ED998BF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A561-06CC-4E5D-BCEB-F43DD3D6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890-A70E-4C15-ACE0-3AEEB4D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809-8D8E-4420-92C7-BA83C84D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D16-0818-427A-8E89-BD0B64D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A87-70D5-40B1-813E-B8A4342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517-3109-44FB-A143-0A90BDF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9459-4AB7-451F-B9A6-F1B4CDB1446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9E4E-916B-43C0-904D-6E9BE0B3201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F49C-36CF-4E3A-9024-B85551DA9CB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093-7F12-4326-B0ED-9776C88D1E9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0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10.wmf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45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tudyisland.com/webinars/training" TargetMode="External"/><Relationship Id="rId2" Type="http://schemas.openxmlformats.org/officeDocument/2006/relationships/image" Target="../media/image10.wmf"/><Relationship Id="rId3" Type="http://schemas.openxmlformats.org/officeDocument/2006/relationships/image" Target="../media/image5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wmf"/><Relationship Id="rId3" Type="http://schemas.openxmlformats.org/officeDocument/2006/relationships/image" Target="../media/image87.jpe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image" Target="../media/image90.png"/><Relationship Id="rId11" Type="http://schemas.openxmlformats.org/officeDocument/2006/relationships/hyperlink" Target="mailto:Implementation@StudyIsland.com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hyperlink" Target="mailto:Support@StudyIsland.com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upport@studyisland.com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Welcome to the Isla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7760" y="3657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acher Information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studyisland.co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.419.3191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0520" y="91440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of this and MORE can be accessed from the toolbar at the left si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568188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Right Arrow 6"/>
          <p:cNvSpPr/>
          <p:nvPr/>
        </p:nvSpPr>
        <p:spPr>
          <a:xfrm>
            <a:off x="1371600" y="1828800"/>
            <a:ext cx="1219320" cy="457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2678040" y="1647720"/>
            <a:ext cx="93348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20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Study Island Program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447560"/>
            <a:ext cx="53337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grade level from the left sid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subjec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top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1076400" cy="11336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3352680" y="3200400"/>
            <a:ext cx="1447920" cy="1550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5334120" cy="1603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52" name="Picture 4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911320" cy="17524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53" name="Right Arrow 10"/>
          <p:cNvSpPr/>
          <p:nvPr/>
        </p:nvSpPr>
        <p:spPr>
          <a:xfrm>
            <a:off x="3886200" y="1828800"/>
            <a:ext cx="20574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Just like the Student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1752480" y="2514600"/>
            <a:ext cx="7621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3352680" y="3809880"/>
            <a:ext cx="9907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228600" y="5943600"/>
            <a:ext cx="1828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5"/>
          <a:stretch/>
        </p:blipFill>
        <p:spPr>
          <a:xfrm>
            <a:off x="7543800" y="5035680"/>
            <a:ext cx="144792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Study Island Program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160" y="1371600"/>
            <a:ext cx="510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multiple Session Typ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905120" y="2438280"/>
            <a:ext cx="1371600" cy="3682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Tes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4011480" cy="2971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62" name="TextBox 13"/>
          <p:cNvSpPr/>
          <p:nvPr/>
        </p:nvSpPr>
        <p:spPr>
          <a:xfrm>
            <a:off x="6095880" y="2362320"/>
            <a:ext cx="137160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Game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00400" cy="30128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64" name="TextBox 12"/>
          <p:cNvSpPr/>
          <p:nvPr/>
        </p:nvSpPr>
        <p:spPr>
          <a:xfrm>
            <a:off x="1295280" y="2362320"/>
            <a:ext cx="289584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Classroom Respons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3364200" cy="3128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66" name="Picture 15" descr=""/>
          <p:cNvPicPr/>
          <p:nvPr/>
        </p:nvPicPr>
        <p:blipFill>
          <a:blip r:embed="rId4"/>
          <a:stretch/>
        </p:blipFill>
        <p:spPr>
          <a:xfrm>
            <a:off x="3733920" y="5486400"/>
            <a:ext cx="1162080" cy="11336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67" name="TextBox 16"/>
          <p:cNvSpPr/>
          <p:nvPr/>
        </p:nvSpPr>
        <p:spPr>
          <a:xfrm>
            <a:off x="5791320" y="2362320"/>
            <a:ext cx="2133360" cy="64260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</a:rPr>
              <a:t>Printable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5"/>
          <a:stretch/>
        </p:blipFill>
        <p:spPr>
          <a:xfrm>
            <a:off x="5334120" y="3048120"/>
            <a:ext cx="3047760" cy="33573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69" name="Picture 14" descr=""/>
          <p:cNvPicPr/>
          <p:nvPr/>
        </p:nvPicPr>
        <p:blipFill>
          <a:blip r:embed="rId6"/>
          <a:stretch/>
        </p:blipFill>
        <p:spPr>
          <a:xfrm>
            <a:off x="5486400" y="1447920"/>
            <a:ext cx="3305160" cy="6350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wipe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Helpful Hi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1676160"/>
            <a:ext cx="876312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 Resources material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available in select topic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1371600" y="4014720"/>
            <a:ext cx="3886200" cy="260352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16"/>
          <p:cNvSpPr/>
          <p:nvPr/>
        </p:nvSpPr>
        <p:spPr>
          <a:xfrm>
            <a:off x="5943600" y="4191120"/>
            <a:ext cx="2057400" cy="1828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scriptions, Videos, Lesson Plans, and Digital Resourc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7"/>
          <p:cNvCxnSpPr/>
          <p:nvPr/>
        </p:nvCxnSpPr>
        <p:spPr>
          <a:xfrm flipH="1" flipV="1">
            <a:off x="4038120" y="4266720"/>
            <a:ext cx="1905840" cy="1533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Explosion 1 9"/>
          <p:cNvSpPr/>
          <p:nvPr/>
        </p:nvSpPr>
        <p:spPr>
          <a:xfrm rot="20509200">
            <a:off x="428400" y="1731960"/>
            <a:ext cx="1419120" cy="5335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541008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ailable to teachers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1" descr="Teacher Resources.png"/>
          <p:cNvPicPr/>
          <p:nvPr/>
        </p:nvPicPr>
        <p:blipFill>
          <a:blip r:embed="rId2"/>
          <a:stretch/>
        </p:blipFill>
        <p:spPr>
          <a:xfrm>
            <a:off x="1447920" y="2133720"/>
            <a:ext cx="5581440" cy="1619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78" name="Oval 12"/>
          <p:cNvSpPr/>
          <p:nvPr/>
        </p:nvSpPr>
        <p:spPr>
          <a:xfrm>
            <a:off x="5486400" y="2057400"/>
            <a:ext cx="91440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Helpful Hi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on the topic name OR check multiple topics and click “Start Studying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ery topic has a lesson and a Passing Go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6094440" cy="18316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82" name="Oval 5"/>
          <p:cNvSpPr/>
          <p:nvPr/>
        </p:nvSpPr>
        <p:spPr>
          <a:xfrm>
            <a:off x="5540400" y="4572000"/>
            <a:ext cx="84924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>
            <a:off x="7705800" y="5230800"/>
            <a:ext cx="1285920" cy="1550880"/>
          </a:xfrm>
          <a:prstGeom prst="rect">
            <a:avLst/>
          </a:prstGeom>
          <a:ln w="0">
            <a:noFill/>
          </a:ln>
        </p:spPr>
      </p:pic>
      <p:sp>
        <p:nvSpPr>
          <p:cNvPr id="284" name="Up Arrow 7"/>
          <p:cNvSpPr/>
          <p:nvPr/>
        </p:nvSpPr>
        <p:spPr>
          <a:xfrm rot="19065600">
            <a:off x="4082760" y="242532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2666880" y="5105520"/>
            <a:ext cx="609840" cy="15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-0.31667 0.38889 E">
                                      <p:cBhvr>
                                        <p:cTn id="51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0.38889 L -0.31667 0.46667 E">
                                      <p:cBhvr>
                                        <p:cTn id="52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0.46667 L 0.23333 0.26667 E">
                                      <p:cBhvr>
                                        <p:cTn id="52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What is a Passing Goa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ssing Goal tells you the minimum required to master the topi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numbers can vary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7705800" y="5230800"/>
            <a:ext cx="1285920" cy="155088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0"/>
          <p:cNvGrpSpPr/>
          <p:nvPr/>
        </p:nvGrpSpPr>
        <p:grpSpPr>
          <a:xfrm>
            <a:off x="1066680" y="4038480"/>
            <a:ext cx="6086520" cy="1914480"/>
            <a:chOff x="1066680" y="4038480"/>
            <a:chExt cx="6086520" cy="1914480"/>
          </a:xfrm>
        </p:grpSpPr>
        <p:pic>
          <p:nvPicPr>
            <p:cNvPr id="290" name="Picture 2" descr=""/>
            <p:cNvPicPr/>
            <p:nvPr/>
          </p:nvPicPr>
          <p:blipFill>
            <a:blip r:embed="rId2"/>
            <a:stretch/>
          </p:blipFill>
          <p:spPr>
            <a:xfrm>
              <a:off x="1066680" y="4038480"/>
              <a:ext cx="6086520" cy="182916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sp>
          <p:nvSpPr>
            <p:cNvPr id="291" name="Oval 9"/>
            <p:cNvSpPr/>
            <p:nvPr/>
          </p:nvSpPr>
          <p:spPr>
            <a:xfrm>
              <a:off x="5589720" y="4657680"/>
              <a:ext cx="914400" cy="129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4617b"/>
                </a:solidFill>
                <a:uFillTx/>
                <a:latin typeface="Calibri"/>
              </a:rPr>
              <a:t>What are these symbols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Picture 14" descr="icons.png"/>
          <p:cNvPicPr/>
          <p:nvPr/>
        </p:nvPicPr>
        <p:blipFill>
          <a:blip r:embed="rId1"/>
          <a:stretch/>
        </p:blipFill>
        <p:spPr>
          <a:xfrm>
            <a:off x="762120" y="2971800"/>
            <a:ext cx="7819920" cy="1847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grpSp>
        <p:nvGrpSpPr>
          <p:cNvPr id="294" name="Group 11"/>
          <p:cNvGrpSpPr/>
          <p:nvPr/>
        </p:nvGrpSpPr>
        <p:grpSpPr>
          <a:xfrm>
            <a:off x="380880" y="1600200"/>
            <a:ext cx="3276720" cy="1905120"/>
            <a:chOff x="380880" y="1600200"/>
            <a:chExt cx="3276720" cy="1905120"/>
          </a:xfrm>
        </p:grpSpPr>
        <p:sp>
          <p:nvSpPr>
            <p:cNvPr id="295" name="Oval 19"/>
            <p:cNvSpPr/>
            <p:nvPr/>
          </p:nvSpPr>
          <p:spPr>
            <a:xfrm>
              <a:off x="380880" y="1600200"/>
              <a:ext cx="3276720" cy="121932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 Blue Ribbon will appear next to each mastered top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Straight Arrow Connector 21"/>
            <p:cNvCxnSpPr>
              <a:stCxn id="295" idx="4"/>
            </p:cNvCxnSpPr>
            <p:nvPr/>
          </p:nvCxnSpPr>
          <p:spPr>
            <a:xfrm flipH="1">
              <a:off x="1752120" y="2819160"/>
              <a:ext cx="26712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97" name="Group 12"/>
          <p:cNvGrpSpPr/>
          <p:nvPr/>
        </p:nvGrpSpPr>
        <p:grpSpPr>
          <a:xfrm>
            <a:off x="5105160" y="1371600"/>
            <a:ext cx="3810240" cy="2209680"/>
            <a:chOff x="5105160" y="1371600"/>
            <a:chExt cx="3810240" cy="2209680"/>
          </a:xfrm>
        </p:grpSpPr>
        <p:sp>
          <p:nvSpPr>
            <p:cNvPr id="298" name="Oval 22"/>
            <p:cNvSpPr/>
            <p:nvPr/>
          </p:nvSpPr>
          <p:spPr>
            <a:xfrm>
              <a:off x="5334120" y="1371600"/>
              <a:ext cx="3581280" cy="167652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uilding Block questions are designed to help your student build on their previous knowledg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9" name="Straight Arrow Connector 23"/>
            <p:cNvCxnSpPr>
              <a:stCxn id="298" idx="3"/>
            </p:cNvCxnSpPr>
            <p:nvPr/>
          </p:nvCxnSpPr>
          <p:spPr>
            <a:xfrm flipH="1">
              <a:off x="5105160" y="2801520"/>
              <a:ext cx="753120" cy="780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00" name="Group 14"/>
          <p:cNvGrpSpPr/>
          <p:nvPr/>
        </p:nvGrpSpPr>
        <p:grpSpPr>
          <a:xfrm>
            <a:off x="609480" y="4190400"/>
            <a:ext cx="3353040" cy="2134080"/>
            <a:chOff x="609480" y="4190400"/>
            <a:chExt cx="3353040" cy="2134080"/>
          </a:xfrm>
        </p:grpSpPr>
        <p:sp>
          <p:nvSpPr>
            <p:cNvPr id="301" name="Oval 25"/>
            <p:cNvSpPr/>
            <p:nvPr/>
          </p:nvSpPr>
          <p:spPr>
            <a:xfrm>
              <a:off x="609480" y="4876920"/>
              <a:ext cx="3353040" cy="144756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 Red Triangle means your student is struggling with the topi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Straight Arrow Connector 26"/>
            <p:cNvCxnSpPr>
              <a:stCxn id="301" idx="0"/>
            </p:cNvCxnSpPr>
            <p:nvPr/>
          </p:nvCxnSpPr>
          <p:spPr>
            <a:xfrm flipH="1" flipV="1">
              <a:off x="1904400" y="4190400"/>
              <a:ext cx="381600" cy="686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303" name="Group 13"/>
          <p:cNvGrpSpPr/>
          <p:nvPr/>
        </p:nvGrpSpPr>
        <p:grpSpPr>
          <a:xfrm>
            <a:off x="5028840" y="4190760"/>
            <a:ext cx="3429360" cy="2057760"/>
            <a:chOff x="5028840" y="4190760"/>
            <a:chExt cx="3429360" cy="2057760"/>
          </a:xfrm>
        </p:grpSpPr>
        <p:sp>
          <p:nvSpPr>
            <p:cNvPr id="304" name="Oval 30"/>
            <p:cNvSpPr/>
            <p:nvPr/>
          </p:nvSpPr>
          <p:spPr>
            <a:xfrm>
              <a:off x="5257800" y="4648320"/>
              <a:ext cx="3200400" cy="1600200"/>
            </a:xfrm>
            <a:prstGeom prst="ellipse">
              <a:avLst/>
            </a:prstGeom>
            <a:solidFill>
              <a:srgbClr val="0bd0d9"/>
            </a:solidFill>
            <a:ln w="25560">
              <a:solidFill>
                <a:srgbClr val="06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 White Ribbon will appear when a Building Block Topic is mastere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5" name="Straight Arrow Connector 31"/>
            <p:cNvCxnSpPr>
              <a:stCxn id="304" idx="1"/>
            </p:cNvCxnSpPr>
            <p:nvPr/>
          </p:nvCxnSpPr>
          <p:spPr>
            <a:xfrm flipH="1" flipV="1">
              <a:off x="5028840" y="4190760"/>
              <a:ext cx="697680" cy="692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ransition spd="slow"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000"/>
                            </p:stCondLst>
                            <p:childTnLst>
                              <p:par>
                                <p:cTn id="5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idn’t meet the Passing Goa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finding the correct answer, your student can view an explanation or go to the next question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leting a set of questions, your student may be able to re-try missed ques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546120" indent="-27324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through missed questions helps students understand the material and increases reten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1"/>
          <a:stretch/>
        </p:blipFill>
        <p:spPr>
          <a:xfrm>
            <a:off x="8077320" y="576576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2571480" cy="638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6781680" y="4267080"/>
            <a:ext cx="1819440" cy="3715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wipe dir="u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idn’t meet the Passing Goal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934640"/>
            <a:ext cx="84582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your student is still struggling with a topic, try th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he Study Island less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missed questions by clicking on the score in the Your Results colum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supplemental resourc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3062520" cy="3636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14" name="Picture 14" descr=""/>
          <p:cNvPicPr/>
          <p:nvPr/>
        </p:nvPicPr>
        <p:blipFill>
          <a:blip r:embed="rId2"/>
          <a:stretch/>
        </p:blipFill>
        <p:spPr>
          <a:xfrm>
            <a:off x="3657600" y="3352680"/>
            <a:ext cx="4978440" cy="1387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15" name="Oval 12"/>
          <p:cNvSpPr/>
          <p:nvPr/>
        </p:nvSpPr>
        <p:spPr>
          <a:xfrm>
            <a:off x="7010280" y="4019400"/>
            <a:ext cx="6858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2"/>
          <p:cNvGrpSpPr/>
          <p:nvPr/>
        </p:nvGrpSpPr>
        <p:grpSpPr>
          <a:xfrm>
            <a:off x="1143000" y="4267080"/>
            <a:ext cx="5268960" cy="1401840"/>
            <a:chOff x="1143000" y="4267080"/>
            <a:chExt cx="5268960" cy="1401840"/>
          </a:xfrm>
        </p:grpSpPr>
        <p:pic>
          <p:nvPicPr>
            <p:cNvPr id="317" name="Picture 9" descr=""/>
            <p:cNvPicPr/>
            <p:nvPr/>
          </p:nvPicPr>
          <p:blipFill>
            <a:blip r:embed="rId3"/>
            <a:stretch/>
          </p:blipFill>
          <p:spPr>
            <a:xfrm>
              <a:off x="1143000" y="4267080"/>
              <a:ext cx="5261760" cy="140184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sp>
          <p:nvSpPr>
            <p:cNvPr id="318" name="Oval 15"/>
            <p:cNvSpPr/>
            <p:nvPr/>
          </p:nvSpPr>
          <p:spPr>
            <a:xfrm>
              <a:off x="5731200" y="5035320"/>
              <a:ext cx="680760" cy="185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9" name="Straight Arrow Connector 16"/>
          <p:cNvCxnSpPr>
            <a:stCxn id="315" idx="3"/>
            <a:endCxn id="318" idx="7"/>
          </p:cNvCxnSpPr>
          <p:nvPr/>
        </p:nvCxnSpPr>
        <p:spPr>
          <a:xfrm flipH="1">
            <a:off x="6311520" y="4214520"/>
            <a:ext cx="799200" cy="84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slow">
    <p:pull dir="d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up your students into “classes” so you can read reports more easily and create a class pag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to Class Manag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a tit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Nex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4267080" y="2895480"/>
            <a:ext cx="1209960" cy="12668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23" name="Oval 4"/>
          <p:cNvSpPr/>
          <p:nvPr/>
        </p:nvSpPr>
        <p:spPr>
          <a:xfrm>
            <a:off x="4202280" y="3287880"/>
            <a:ext cx="1272960" cy="27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5533920" cy="714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25" name="TextBox 11"/>
          <p:cNvSpPr/>
          <p:nvPr/>
        </p:nvSpPr>
        <p:spPr>
          <a:xfrm>
            <a:off x="4114800" y="52354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. Witty’s Math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Up Arrow 13"/>
          <p:cNvSpPr/>
          <p:nvPr/>
        </p:nvSpPr>
        <p:spPr>
          <a:xfrm rot="19065600">
            <a:off x="5226120" y="3416040"/>
            <a:ext cx="384120" cy="50940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25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with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6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833 0.28889 E">
                                      <p:cBhvr>
                                        <p:cTn id="702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6" dur="25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What is Study Island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304920" y="182880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Island is a Web-based educational resource for instruction, assessment and reporting built from YOUR state’s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studyislandsite.jpg"/>
          <p:cNvPicPr/>
          <p:nvPr/>
        </p:nvPicPr>
        <p:blipFill>
          <a:blip r:embed="rId1"/>
          <a:stretch/>
        </p:blipFill>
        <p:spPr>
          <a:xfrm>
            <a:off x="4267080" y="2819520"/>
            <a:ext cx="4419720" cy="32320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00" name="Picture 8" descr="frontpage-ezroom-5000.jpg"/>
          <p:cNvPicPr/>
          <p:nvPr/>
        </p:nvPicPr>
        <p:blipFill>
          <a:blip r:embed="rId2"/>
          <a:stretch/>
        </p:blipFill>
        <p:spPr>
          <a:xfrm>
            <a:off x="457200" y="3809880"/>
            <a:ext cx="3352680" cy="12621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09960" cy="12668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29" name=""/>
          <p:cNvSpPr txBox="1"/>
          <p:nvPr/>
        </p:nvSpPr>
        <p:spPr>
          <a:xfrm>
            <a:off x="457200" y="1325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 class preferences (if allowed by Admin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 games, remedial topics, timer visibility, scratchpad and highlighter availabili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select stude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red arrow to see students in the desired gra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your stud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7631280" y="1077840"/>
            <a:ext cx="1272960" cy="271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"/>
          <p:cNvPicPr/>
          <p:nvPr/>
        </p:nvPicPr>
        <p:blipFill>
          <a:blip r:embed="rId2"/>
          <a:stretch/>
        </p:blipFill>
        <p:spPr>
          <a:xfrm>
            <a:off x="1219320" y="5943600"/>
            <a:ext cx="2114280" cy="314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32" name="Picture 10" descr=""/>
          <p:cNvPicPr/>
          <p:nvPr/>
        </p:nvPicPr>
        <p:blipFill>
          <a:blip r:embed="rId3"/>
          <a:srcRect l="27888" t="54118" r="14902" b="23468"/>
          <a:stretch/>
        </p:blipFill>
        <p:spPr>
          <a:xfrm>
            <a:off x="4267080" y="5029200"/>
            <a:ext cx="4616640" cy="16556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33" name="Picture 11" descr=""/>
          <p:cNvPicPr/>
          <p:nvPr/>
        </p:nvPicPr>
        <p:blipFill>
          <a:blip r:embed="rId4"/>
          <a:stretch/>
        </p:blipFill>
        <p:spPr>
          <a:xfrm>
            <a:off x="1905120" y="2647800"/>
            <a:ext cx="5648040" cy="15433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34" name="Explosion 1 11"/>
          <p:cNvSpPr/>
          <p:nvPr/>
        </p:nvSpPr>
        <p:spPr>
          <a:xfrm>
            <a:off x="7162920" y="2286000"/>
            <a:ext cx="167616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14"/>
          <p:cNvCxnSpPr>
            <a:stCxn id="334" idx="1"/>
          </p:cNvCxnSpPr>
          <p:nvPr/>
        </p:nvCxnSpPr>
        <p:spPr>
          <a:xfrm flipH="1">
            <a:off x="4419360" y="2529000"/>
            <a:ext cx="2743920" cy="13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Up Arrow 18"/>
          <p:cNvSpPr/>
          <p:nvPr/>
        </p:nvSpPr>
        <p:spPr>
          <a:xfrm rot="19065600">
            <a:off x="3549240" y="425412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2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11 L 0.0908 0.19796 E">
                                      <p:cBhvr>
                                        <p:cTn id="758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2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19797 L 0.0908 0.32007 E">
                                      <p:cBhvr>
                                        <p:cTn id="77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32007 L -0.22587 0.25347 E">
                                      <p:cBhvr>
                                        <p:cTn id="781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5238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you return to Class Manager you can see a list of your classes. </a:t>
            </a:r>
            <a:br>
              <a:rPr sz="26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Edit      , Create Class Page and Assignments       , schedule Parent Notifications        , or Remove Class      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enter Live View to monitor real-time student activ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 also see if a class page is “Active”      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” means students can see the class p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must post an assignment, note, schedule, or link before you can activate a class p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2489040" y="3400560"/>
            <a:ext cx="304920" cy="3427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7843680" y="3429000"/>
            <a:ext cx="309600" cy="326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1" name="Picture 5" descr=""/>
          <p:cNvPicPr/>
          <p:nvPr/>
        </p:nvPicPr>
        <p:blipFill>
          <a:blip r:embed="rId3"/>
          <a:stretch/>
        </p:blipFill>
        <p:spPr>
          <a:xfrm>
            <a:off x="7772400" y="3809880"/>
            <a:ext cx="304920" cy="3049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2" name="Picture 6" descr=""/>
          <p:cNvPicPr/>
          <p:nvPr/>
        </p:nvPicPr>
        <p:blipFill>
          <a:blip r:embed="rId4"/>
          <a:stretch/>
        </p:blipFill>
        <p:spPr>
          <a:xfrm>
            <a:off x="6400800" y="5119560"/>
            <a:ext cx="380880" cy="3319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43" name="Picture 10" descr=""/>
          <p:cNvPicPr/>
          <p:nvPr/>
        </p:nvPicPr>
        <p:blipFill>
          <a:blip r:embed="rId5"/>
          <a:stretch/>
        </p:blipFill>
        <p:spPr>
          <a:xfrm>
            <a:off x="2590920" y="1981080"/>
            <a:ext cx="6161040" cy="13716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44" name="Explosion 1 12"/>
          <p:cNvSpPr/>
          <p:nvPr/>
        </p:nvSpPr>
        <p:spPr>
          <a:xfrm>
            <a:off x="7086600" y="762120"/>
            <a:ext cx="1600200" cy="9144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Straight Arrow Connector 14"/>
          <p:cNvCxnSpPr/>
          <p:nvPr/>
        </p:nvCxnSpPr>
        <p:spPr>
          <a:xfrm flipH="1">
            <a:off x="7009920" y="1447560"/>
            <a:ext cx="4579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6" name="Straight Arrow Connector 16"/>
          <p:cNvCxnSpPr/>
          <p:nvPr/>
        </p:nvCxnSpPr>
        <p:spPr>
          <a:xfrm>
            <a:off x="8077320" y="1576440"/>
            <a:ext cx="305280" cy="10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7" name="Oval 13"/>
          <p:cNvSpPr/>
          <p:nvPr/>
        </p:nvSpPr>
        <p:spPr>
          <a:xfrm>
            <a:off x="6553080" y="1981080"/>
            <a:ext cx="8384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5" descr=""/>
          <p:cNvPicPr/>
          <p:nvPr/>
        </p:nvPicPr>
        <p:blipFill>
          <a:blip r:embed="rId6"/>
          <a:stretch/>
        </p:blipFill>
        <p:spPr>
          <a:xfrm>
            <a:off x="4886280" y="3733920"/>
            <a:ext cx="371520" cy="3715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</p:spTree>
  </p:cSld>
  <p:transition spd="slow">
    <p:wipe dir="u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with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 Class Pa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    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an Assignment, Note, Schedule, or Link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309600" cy="327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343400" cy="3022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53" name="Oval 9"/>
          <p:cNvSpPr/>
          <p:nvPr/>
        </p:nvSpPr>
        <p:spPr>
          <a:xfrm>
            <a:off x="5281560" y="4724280"/>
            <a:ext cx="140832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3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28600" y="13712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can work on anything in Study Island, or you can post a specific assig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n assign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                     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n assignment ty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1915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actice and Instruction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968760" indent="-141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Study Island topic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1915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ing Assignment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968760" indent="-141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writing promp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19152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ustom Assessment 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968760" indent="-141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 Study Island ques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4495680" y="2195640"/>
            <a:ext cx="4572000" cy="2757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59" name="Explosion 1 8"/>
          <p:cNvSpPr/>
          <p:nvPr/>
        </p:nvSpPr>
        <p:spPr>
          <a:xfrm>
            <a:off x="152280" y="459252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3"/>
          <a:stretch/>
        </p:blipFill>
        <p:spPr>
          <a:xfrm>
            <a:off x="1676520" y="2771640"/>
            <a:ext cx="1617480" cy="276480"/>
          </a:xfrm>
          <a:prstGeom prst="rect">
            <a:avLst/>
          </a:prstGeom>
          <a:ln w="0">
            <a:noFill/>
          </a:ln>
        </p:spPr>
      </p:pic>
      <p:sp>
        <p:nvSpPr>
          <p:cNvPr id="361" name="Explosion 1 21"/>
          <p:cNvSpPr/>
          <p:nvPr/>
        </p:nvSpPr>
        <p:spPr>
          <a:xfrm>
            <a:off x="152280" y="535464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32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36440" indent="-136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 Practice and Instruction assignme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55600" indent="-11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                                                       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55600" indent="-11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Picture 11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267080" cy="447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3" descr=""/>
          <p:cNvPicPr/>
          <p:nvPr/>
        </p:nvPicPr>
        <p:blipFill>
          <a:blip r:embed="rId2"/>
          <a:stretch/>
        </p:blipFill>
        <p:spPr>
          <a:xfrm>
            <a:off x="4191120" y="2266920"/>
            <a:ext cx="4811760" cy="3371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4309920" y="318924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Value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343400" y="36576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 chapter 4 before compl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4"/>
          <p:cNvSpPr/>
          <p:nvPr/>
        </p:nvSpPr>
        <p:spPr>
          <a:xfrm>
            <a:off x="5797440" y="2638440"/>
            <a:ext cx="140832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tent Placeholder 2"/>
          <p:cNvSpPr/>
          <p:nvPr/>
        </p:nvSpPr>
        <p:spPr>
          <a:xfrm>
            <a:off x="0" y="2286000"/>
            <a:ext cx="42670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du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additional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if you want to override school p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calculator preferenc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4" descr=""/>
          <p:cNvPicPr/>
          <p:nvPr/>
        </p:nvPicPr>
        <p:blipFill>
          <a:blip r:embed="rId3"/>
          <a:stretch/>
        </p:blipFill>
        <p:spPr>
          <a:xfrm>
            <a:off x="304920" y="5716440"/>
            <a:ext cx="4419360" cy="989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cxnSp>
        <p:nvCxnSpPr>
          <p:cNvPr id="371" name="Straight Arrow Connector 15"/>
          <p:cNvCxnSpPr/>
          <p:nvPr/>
        </p:nvCxnSpPr>
        <p:spPr>
          <a:xfrm flipH="1">
            <a:off x="3927240" y="4571640"/>
            <a:ext cx="457920" cy="1220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2" name="Oval 17"/>
          <p:cNvSpPr/>
          <p:nvPr/>
        </p:nvSpPr>
        <p:spPr>
          <a:xfrm>
            <a:off x="6377040" y="4917960"/>
            <a:ext cx="609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9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n assignment(cont.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red arrow          next to a cla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“Select All” or select specific stude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228600" cy="374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76" name="Picture 1" descr=""/>
          <p:cNvPicPr/>
          <p:nvPr/>
        </p:nvPicPr>
        <p:blipFill>
          <a:blip r:embed="rId2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3"/>
          <a:srcRect l="13460" t="19618" r="33174" b="60599"/>
          <a:stretch/>
        </p:blipFill>
        <p:spPr>
          <a:xfrm>
            <a:off x="1600200" y="3733920"/>
            <a:ext cx="5613480" cy="1904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78" name="Up Arrow 6"/>
          <p:cNvSpPr/>
          <p:nvPr/>
        </p:nvSpPr>
        <p:spPr>
          <a:xfrm rot="19065600">
            <a:off x="2101320" y="4559400"/>
            <a:ext cx="384480" cy="509400"/>
          </a:xfrm>
          <a:prstGeom prst="up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0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-0.00162 L 0.00712 0.04094 E">
                                      <p:cBhvr>
                                        <p:cTn id="1074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8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0.04256 L 0.00746 0.08696 E">
                                      <p:cBhvr>
                                        <p:cTn id="1081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reate an assignment(cont.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which topics you want to assig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 a Grad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lect  a Subject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“Get Topic List”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4038480" y="2895480"/>
            <a:ext cx="4896000" cy="1143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82" name="Picture 1" descr=""/>
          <p:cNvPicPr/>
          <p:nvPr/>
        </p:nvPicPr>
        <p:blipFill>
          <a:blip r:embed="rId2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871800" cy="21333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cxnSp>
        <p:nvCxnSpPr>
          <p:cNvPr id="384" name="Straight Arrow Connector 11"/>
          <p:cNvCxnSpPr/>
          <p:nvPr/>
        </p:nvCxnSpPr>
        <p:spPr>
          <a:xfrm flipH="1">
            <a:off x="4266360" y="3808800"/>
            <a:ext cx="3506040" cy="1143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5" name="Oval 7"/>
          <p:cNvSpPr/>
          <p:nvPr/>
        </p:nvSpPr>
        <p:spPr>
          <a:xfrm>
            <a:off x="4038480" y="3352680"/>
            <a:ext cx="1371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38480" y="3621240"/>
            <a:ext cx="13716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1904760"/>
            <a:ext cx="883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lvl="1" marL="453960" indent="-174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lp you decide which topics to assign, you ca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the Standard Map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e the Passing Goal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the Lesson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view Question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the Standard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ready for students to see the assignment- “Activate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can create assignments and leave them deactivated until you want students to work on them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“Save Assignment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49080" indent="-1746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53960" indent="-1742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72160" cy="21337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3886200" y="2438280"/>
            <a:ext cx="181080" cy="190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3505320" y="2743200"/>
            <a:ext cx="799920" cy="266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2" name="Picture 5" descr=""/>
          <p:cNvPicPr/>
          <p:nvPr/>
        </p:nvPicPr>
        <p:blipFill>
          <a:blip r:embed="rId4"/>
          <a:stretch/>
        </p:blipFill>
        <p:spPr>
          <a:xfrm>
            <a:off x="3048120" y="3187800"/>
            <a:ext cx="228600" cy="2412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3352680" y="3586320"/>
            <a:ext cx="193680" cy="223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4" name="Picture 7" descr=""/>
          <p:cNvPicPr/>
          <p:nvPr/>
        </p:nvPicPr>
        <p:blipFill>
          <a:blip r:embed="rId6"/>
          <a:stretch/>
        </p:blipFill>
        <p:spPr>
          <a:xfrm>
            <a:off x="3657600" y="3962520"/>
            <a:ext cx="237960" cy="2379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395" name="Picture 10" descr=""/>
          <p:cNvPicPr/>
          <p:nvPr/>
        </p:nvPicPr>
        <p:blipFill>
          <a:blip r:embed="rId7"/>
          <a:stretch/>
        </p:blipFill>
        <p:spPr>
          <a:xfrm>
            <a:off x="5867280" y="5562720"/>
            <a:ext cx="2381400" cy="819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396" name="Oval 13"/>
          <p:cNvSpPr/>
          <p:nvPr/>
        </p:nvSpPr>
        <p:spPr>
          <a:xfrm>
            <a:off x="5867280" y="6019920"/>
            <a:ext cx="140832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Up Arrow 12"/>
          <p:cNvSpPr/>
          <p:nvPr/>
        </p:nvSpPr>
        <p:spPr>
          <a:xfrm rot="19065600">
            <a:off x="7589520" y="1814040"/>
            <a:ext cx="382680" cy="51300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1795E-006 L 0.1158 0.25347 E">
                                      <p:cBhvr>
                                        <p:cTn id="1157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8 0.25185 L 0.03246 0.32956 E">
                                      <p:cBhvr>
                                        <p:cTn id="117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32008 L 0.08125 0.38668 E">
                                      <p:cBhvr>
                                        <p:cTn id="118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7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6 0.38668 L 0.09427 0.38668 E">
                                      <p:cBhvr>
                                        <p:cTn id="119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2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7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38668 L 0.1158 0.38668 E">
                                      <p:cBhvr>
                                        <p:cTn id="121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2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3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8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you                      you can see a list of assignments. 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ate      /Deactivate       Assignm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student resul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t the assig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he assignm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2152800" y="2057400"/>
            <a:ext cx="1693800" cy="266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6658200" cy="1981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2" name="Picture 6" descr=""/>
          <p:cNvPicPr/>
          <p:nvPr/>
        </p:nvPicPr>
        <p:blipFill>
          <a:blip r:embed="rId3"/>
          <a:stretch/>
        </p:blipFill>
        <p:spPr>
          <a:xfrm>
            <a:off x="4114800" y="4933800"/>
            <a:ext cx="318960" cy="3016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3" name="Picture 7" descr=""/>
          <p:cNvPicPr/>
          <p:nvPr/>
        </p:nvPicPr>
        <p:blipFill>
          <a:blip r:embed="rId4"/>
          <a:stretch/>
        </p:blipFill>
        <p:spPr>
          <a:xfrm>
            <a:off x="2233440" y="4876920"/>
            <a:ext cx="304920" cy="304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4" name="Picture 8" descr=""/>
          <p:cNvPicPr/>
          <p:nvPr/>
        </p:nvPicPr>
        <p:blipFill>
          <a:blip r:embed="rId5"/>
          <a:stretch/>
        </p:blipFill>
        <p:spPr>
          <a:xfrm>
            <a:off x="3962520" y="5391000"/>
            <a:ext cx="304560" cy="2764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5" name="Picture 9" descr=""/>
          <p:cNvPicPr/>
          <p:nvPr/>
        </p:nvPicPr>
        <p:blipFill>
          <a:blip r:embed="rId6"/>
          <a:stretch/>
        </p:blipFill>
        <p:spPr>
          <a:xfrm>
            <a:off x="3962520" y="5848200"/>
            <a:ext cx="228600" cy="2286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6" name="Picture 10" descr=""/>
          <p:cNvPicPr/>
          <p:nvPr/>
        </p:nvPicPr>
        <p:blipFill>
          <a:blip r:embed="rId7"/>
          <a:stretch/>
        </p:blipFill>
        <p:spPr>
          <a:xfrm>
            <a:off x="4419720" y="6296040"/>
            <a:ext cx="237960" cy="2379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07" name="Picture 1" descr=""/>
          <p:cNvPicPr/>
          <p:nvPr/>
        </p:nvPicPr>
        <p:blipFill>
          <a:blip r:embed="rId8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0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201096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1200" indent="-511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ing a Writing Assignment or Custom Assignment works similarly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1200" indent="-511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additional assistanc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t the HELP tab for tutoria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Customer Support at 800.419.3191 x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 a webinar found a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tudyisland.com/webinars/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8040" indent="-5112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8077320" y="5638680"/>
            <a:ext cx="904680" cy="1092240"/>
          </a:xfrm>
          <a:prstGeom prst="rect">
            <a:avLst/>
          </a:prstGeom>
          <a:ln w="0">
            <a:noFill/>
          </a:ln>
        </p:spPr>
      </p:pic>
      <p:sp>
        <p:nvSpPr>
          <p:cNvPr id="411" name="Explosion 1 4"/>
          <p:cNvSpPr/>
          <p:nvPr/>
        </p:nvSpPr>
        <p:spPr>
          <a:xfrm>
            <a:off x="5334120" y="3352680"/>
            <a:ext cx="109836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xplosion 1 5"/>
          <p:cNvSpPr/>
          <p:nvPr/>
        </p:nvSpPr>
        <p:spPr>
          <a:xfrm>
            <a:off x="4800600" y="426708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5562720" y="304920"/>
            <a:ext cx="2904840" cy="17524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14" name="Picture 7" descr="Steve Award.bmp"/>
          <p:cNvPicPr/>
          <p:nvPr/>
        </p:nvPicPr>
        <p:blipFill>
          <a:blip r:embed="rId4"/>
          <a:stretch/>
        </p:blipFill>
        <p:spPr>
          <a:xfrm>
            <a:off x="7391520" y="4114800"/>
            <a:ext cx="1079280" cy="10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Explosion 1 9"/>
          <p:cNvSpPr/>
          <p:nvPr/>
        </p:nvSpPr>
        <p:spPr>
          <a:xfrm rot="20462400">
            <a:off x="41400" y="1987200"/>
            <a:ext cx="109836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0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What is Study Island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15228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Island uses lessons, practice questions, and explanations to reinforce the concepts and skills taught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opics and lesson.png"/>
          <p:cNvPicPr/>
          <p:nvPr/>
        </p:nvPicPr>
        <p:blipFill>
          <a:blip r:embed="rId1"/>
          <a:stretch/>
        </p:blipFill>
        <p:spPr>
          <a:xfrm>
            <a:off x="1752480" y="3124080"/>
            <a:ext cx="5791320" cy="2962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04" name="TextBox 7"/>
          <p:cNvSpPr/>
          <p:nvPr/>
        </p:nvSpPr>
        <p:spPr>
          <a:xfrm>
            <a:off x="76212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Straight Arrow Connector 9"/>
          <p:cNvCxnSpPr/>
          <p:nvPr/>
        </p:nvCxnSpPr>
        <p:spPr>
          <a:xfrm>
            <a:off x="1675440" y="3809880"/>
            <a:ext cx="610200" cy="610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6" name="TextBox 10"/>
          <p:cNvSpPr/>
          <p:nvPr/>
        </p:nvSpPr>
        <p:spPr>
          <a:xfrm>
            <a:off x="754380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12"/>
          <p:cNvCxnSpPr/>
          <p:nvPr/>
        </p:nvCxnSpPr>
        <p:spPr>
          <a:xfrm flipH="1">
            <a:off x="7314840" y="3276720"/>
            <a:ext cx="457920" cy="838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pull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934640"/>
            <a:ext cx="7696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ANT! If this is your first time creating an assignment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you need to activate your class pag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43680" cy="23241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19" name="Oval 12"/>
          <p:cNvSpPr/>
          <p:nvPr/>
        </p:nvSpPr>
        <p:spPr>
          <a:xfrm>
            <a:off x="1066680" y="3943440"/>
            <a:ext cx="23623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0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Class Manag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52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ctiva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your class page, students see your assignment when they log in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can select your assignment or a Program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73040" indent="-18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73040" indent="-181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448480" cy="25909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23" name="Up Arrow 7"/>
          <p:cNvSpPr/>
          <p:nvPr/>
        </p:nvSpPr>
        <p:spPr>
          <a:xfrm rot="19065600">
            <a:off x="7892640" y="554940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nodeType="clickEffect" fill="hold">
                      <p:stCondLst>
                        <p:cond delay="0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5087 -0.06852 E">
                                      <p:cBhvr>
                                        <p:cTn id="1414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87 -0.06852 L -0.775 -0.15556 E">
                                      <p:cBhvr>
                                        <p:cTn id="1421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5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981000" cy="100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2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School Stats you c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 reports being “Automatically Emailed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Usernames and Passw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 Difficulty Level (if allowed by Admi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hange Passing Goa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strict Grad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23920" indent="-457200">
              <a:lnSpc>
                <a:spcPct val="10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able Text-to-Speec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repor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Oval 5"/>
          <p:cNvSpPr/>
          <p:nvPr/>
        </p:nvSpPr>
        <p:spPr>
          <a:xfrm>
            <a:off x="6824520" y="8920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3048120" y="4448160"/>
            <a:ext cx="5895720" cy="2181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29" name="Up Arrow 13"/>
          <p:cNvSpPr/>
          <p:nvPr/>
        </p:nvSpPr>
        <p:spPr>
          <a:xfrm rot="19065600">
            <a:off x="4768560" y="1510920"/>
            <a:ext cx="384120" cy="50976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Explosion 1 8"/>
          <p:cNvSpPr/>
          <p:nvPr/>
        </p:nvSpPr>
        <p:spPr>
          <a:xfrm rot="613200">
            <a:off x="4129200" y="3889440"/>
            <a:ext cx="1098360" cy="43632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0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0162 L 0.0658 0.44056 E">
                                      <p:cBhvr>
                                        <p:cTn id="1450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4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8 0.43594 L 0.19914 0.43594 E">
                                      <p:cBhvr>
                                        <p:cTn id="1464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8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5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914 0.43594 L 0.32414 0.43548 E">
                                      <p:cBhvr>
                                        <p:cTn id="1478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3" dur="1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414 0.43548 L 0.19914 0.71346 E">
                                      <p:cBhvr>
                                        <p:cTn id="1519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3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088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several reporting op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TI Repor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ss Gradebook Report” is popular. Selec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subject broken down by topic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clas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grade le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subjec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Repor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843360" y="860400"/>
            <a:ext cx="981000" cy="100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34" name="Oval 6"/>
          <p:cNvSpPr/>
          <p:nvPr/>
        </p:nvSpPr>
        <p:spPr>
          <a:xfrm>
            <a:off x="3733920" y="8380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5391360" cy="23432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36" name="Up Arrow 11"/>
          <p:cNvSpPr/>
          <p:nvPr/>
        </p:nvSpPr>
        <p:spPr>
          <a:xfrm rot="19065600">
            <a:off x="6978600" y="4330440"/>
            <a:ext cx="384120" cy="50940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247840" cy="1467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38" name="Explosion 1 8"/>
          <p:cNvSpPr/>
          <p:nvPr/>
        </p:nvSpPr>
        <p:spPr>
          <a:xfrm>
            <a:off x="609480" y="2514600"/>
            <a:ext cx="1098720" cy="4366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nodeType="clickEffect" fill="hold">
                      <p:stCondLst>
                        <p:cond delay="0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5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8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0185 L -1.38889E-006 0.04259 E">
                                      <p:cBhvr>
                                        <p:cTn id="1570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3935 L -1.38889E-006 0.08379 E">
                                      <p:cBhvr>
                                        <p:cTn id="158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7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6944 L -0.00087 0.11389 E">
                                      <p:cBhvr>
                                        <p:cTn id="1596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0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9514 L -1.38889E-006 0.15069 E">
                                      <p:cBhvr>
                                        <p:cTn id="1609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3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0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15185 L -0.0842 0.28333 E">
                                      <p:cBhvr>
                                        <p:cTn id="1622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6" dur="250" autoRev="1" fill="hold"/>
                                        <p:tgtEl>
                                          <p:spTgt spid="4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52280" y="13712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c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in Exc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Email the report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yone you specif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oll right to see Ribbons Earned for each student or cla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a score to see the List of Sess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a student name to see the Individual Subject Repor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3843360" y="860400"/>
            <a:ext cx="981000" cy="100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42" name="Oval 6"/>
          <p:cNvSpPr/>
          <p:nvPr/>
        </p:nvSpPr>
        <p:spPr>
          <a:xfrm>
            <a:off x="3733920" y="8380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971720" cy="17812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44" name="Picture 5" descr=""/>
          <p:cNvPicPr/>
          <p:nvPr/>
        </p:nvPicPr>
        <p:blipFill>
          <a:blip r:embed="rId3"/>
          <a:stretch/>
        </p:blipFill>
        <p:spPr>
          <a:xfrm>
            <a:off x="533520" y="4019400"/>
            <a:ext cx="5105160" cy="23338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45" name="Picture 8" descr=""/>
          <p:cNvPicPr/>
          <p:nvPr/>
        </p:nvPicPr>
        <p:blipFill>
          <a:blip r:embed="rId4"/>
          <a:stretch/>
        </p:blipFill>
        <p:spPr>
          <a:xfrm>
            <a:off x="685800" y="6459480"/>
            <a:ext cx="7620120" cy="1890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46" name="Picture 7" descr=""/>
          <p:cNvPicPr/>
          <p:nvPr/>
        </p:nvPicPr>
        <p:blipFill>
          <a:blip r:embed="rId5"/>
          <a:stretch/>
        </p:blipFill>
        <p:spPr>
          <a:xfrm>
            <a:off x="838080" y="6465960"/>
            <a:ext cx="1895760" cy="19980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47" name="Oval 14"/>
          <p:cNvSpPr/>
          <p:nvPr/>
        </p:nvSpPr>
        <p:spPr>
          <a:xfrm>
            <a:off x="533520" y="401940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3124080" y="4019400"/>
            <a:ext cx="20574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6"/>
          <p:cNvSpPr/>
          <p:nvPr/>
        </p:nvSpPr>
        <p:spPr>
          <a:xfrm>
            <a:off x="7521480" y="5181480"/>
            <a:ext cx="13716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7"/>
          <p:cNvSpPr/>
          <p:nvPr/>
        </p:nvSpPr>
        <p:spPr>
          <a:xfrm>
            <a:off x="428760" y="5467320"/>
            <a:ext cx="10666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8"/>
          <p:cNvSpPr/>
          <p:nvPr/>
        </p:nvSpPr>
        <p:spPr>
          <a:xfrm>
            <a:off x="3581280" y="5467320"/>
            <a:ext cx="5335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0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2.59259E-006 L 0.59271 -0.00185 E">
                                      <p:cBhvr>
                                        <p:cTn id="1664" dur="3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6840" y="1934640"/>
            <a:ext cx="80010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a name to see the Individual Subject Re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ch looks like thi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udents can see this report from their own accou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4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5338800" cy="30477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5965920" y="2409840"/>
            <a:ext cx="2895480" cy="132408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cxnSp>
        <p:nvCxnSpPr>
          <p:cNvPr id="456" name="Straight Arrow Connector 7"/>
          <p:cNvCxnSpPr>
            <a:stCxn id="457" idx="2"/>
          </p:cNvCxnSpPr>
          <p:nvPr/>
        </p:nvCxnSpPr>
        <p:spPr>
          <a:xfrm flipH="1">
            <a:off x="4190760" y="3297600"/>
            <a:ext cx="1730880" cy="28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7" name="Oval 5"/>
          <p:cNvSpPr/>
          <p:nvPr/>
        </p:nvSpPr>
        <p:spPr>
          <a:xfrm>
            <a:off x="5921280" y="3222720"/>
            <a:ext cx="609840" cy="1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nodeType="clickEffect" fill="hold">
                      <p:stCondLst>
                        <p:cond delay="0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9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1934640"/>
            <a:ext cx="8305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dividual Student Report can lead you to other reports: “Compare with others” and “Suggested Topics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chool Sta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1581120" cy="514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grpSp>
        <p:nvGrpSpPr>
          <p:cNvPr id="461" name="Group 9"/>
          <p:cNvGrpSpPr/>
          <p:nvPr/>
        </p:nvGrpSpPr>
        <p:grpSpPr>
          <a:xfrm>
            <a:off x="304920" y="3047040"/>
            <a:ext cx="4647960" cy="3129840"/>
            <a:chOff x="304920" y="3047040"/>
            <a:chExt cx="4647960" cy="3129840"/>
          </a:xfrm>
        </p:grpSpPr>
        <p:pic>
          <p:nvPicPr>
            <p:cNvPr id="462" name="Picture 8" descr=""/>
            <p:cNvPicPr/>
            <p:nvPr/>
          </p:nvPicPr>
          <p:blipFill>
            <a:blip r:embed="rId2"/>
            <a:stretch/>
          </p:blipFill>
          <p:spPr>
            <a:xfrm>
              <a:off x="304920" y="3505320"/>
              <a:ext cx="3562200" cy="267156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cxnSp>
          <p:nvCxnSpPr>
            <p:cNvPr id="463" name="Straight Arrow Connector 12"/>
            <p:cNvCxnSpPr/>
            <p:nvPr/>
          </p:nvCxnSpPr>
          <p:spPr>
            <a:xfrm flipH="1">
              <a:off x="3276360" y="3047040"/>
              <a:ext cx="167688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64" name="Group 11"/>
          <p:cNvGrpSpPr/>
          <p:nvPr/>
        </p:nvGrpSpPr>
        <p:grpSpPr>
          <a:xfrm>
            <a:off x="4114800" y="3352320"/>
            <a:ext cx="4572000" cy="2827800"/>
            <a:chOff x="4114800" y="3352320"/>
            <a:chExt cx="4572000" cy="2827800"/>
          </a:xfrm>
        </p:grpSpPr>
        <p:pic>
          <p:nvPicPr>
            <p:cNvPr id="465" name="Picture 9" descr=""/>
            <p:cNvPicPr/>
            <p:nvPr/>
          </p:nvPicPr>
          <p:blipFill>
            <a:blip r:embed="rId3"/>
            <a:stretch/>
          </p:blipFill>
          <p:spPr>
            <a:xfrm>
              <a:off x="4114800" y="4114800"/>
              <a:ext cx="4572000" cy="2065320"/>
            </a:xfrm>
            <a:prstGeom prst="rect">
              <a:avLst/>
            </a:prstGeom>
            <a:ln w="9360">
              <a:solidFill>
                <a:srgbClr val="981e32"/>
              </a:solidFill>
              <a:miter/>
            </a:ln>
          </p:spPr>
        </p:pic>
        <p:cxnSp>
          <p:nvCxnSpPr>
            <p:cNvPr id="466" name="Straight Arrow Connector 13"/>
            <p:cNvCxnSpPr/>
            <p:nvPr/>
          </p:nvCxnSpPr>
          <p:spPr>
            <a:xfrm>
              <a:off x="5486400" y="3352320"/>
              <a:ext cx="381600" cy="7628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nodeType="clickEffect" fill="hold">
                      <p:stCondLst>
                        <p:cond delay="0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BigRibbon"/>
          <p:cNvPicPr/>
          <p:nvPr/>
        </p:nvPicPr>
        <p:blipFill>
          <a:blip r:embed="rId1"/>
          <a:stretch/>
        </p:blipFill>
        <p:spPr>
          <a:xfrm>
            <a:off x="228600" y="4722840"/>
            <a:ext cx="838080" cy="1220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" descr="C:\Documents and Settings\Kimberly.Witty\Local Settings\Temporary Internet Files\Content.IE5\HSA1RDZM\MCj04114980000[1].wmf"/>
          <p:cNvPicPr/>
          <p:nvPr/>
        </p:nvPicPr>
        <p:blipFill>
          <a:blip r:embed="rId2"/>
          <a:stretch/>
        </p:blipFill>
        <p:spPr>
          <a:xfrm>
            <a:off x="7848720" y="2243160"/>
            <a:ext cx="1216080" cy="1414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tivating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70" name="Picture 3" descr="C:\Documents and Settings\Kimberly.Witty\Local Settings\Temporary Internet Files\Content.IE5\1TIC39MB\MPj04395580000[1].jpg"/>
          <p:cNvPicPr/>
          <p:nvPr/>
        </p:nvPicPr>
        <p:blipFill>
          <a:blip r:embed="rId3"/>
          <a:stretch/>
        </p:blipFill>
        <p:spPr>
          <a:xfrm rot="1519800">
            <a:off x="6737400" y="526680"/>
            <a:ext cx="1676520" cy="1238400"/>
          </a:xfrm>
          <a:prstGeom prst="rect">
            <a:avLst/>
          </a:prstGeom>
          <a:ln w="0">
            <a:noFill/>
          </a:ln>
        </p:spPr>
      </p:pic>
      <p:pic>
        <p:nvPicPr>
          <p:cNvPr id="471" name="homeGameImage" descr="gameHomeRun"/>
          <p:cNvPicPr/>
          <p:nvPr/>
        </p:nvPicPr>
        <p:blipFill>
          <a:blip r:embed="rId4"/>
          <a:stretch/>
        </p:blipFill>
        <p:spPr>
          <a:xfrm>
            <a:off x="2057400" y="380988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472" name="swatGameImage" descr="gameSwat"/>
          <p:cNvPicPr/>
          <p:nvPr/>
        </p:nvPicPr>
        <p:blipFill>
          <a:blip r:embed="rId5"/>
          <a:stretch/>
        </p:blipFill>
        <p:spPr>
          <a:xfrm>
            <a:off x="3276720" y="380988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" descr=""/>
          <p:cNvPicPr/>
          <p:nvPr/>
        </p:nvPicPr>
        <p:blipFill>
          <a:blip r:embed="rId6"/>
          <a:srcRect l="41666" t="34732" r="52201" b="57746"/>
          <a:stretch/>
        </p:blipFill>
        <p:spPr>
          <a:xfrm>
            <a:off x="448452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" descr=""/>
          <p:cNvPicPr/>
          <p:nvPr/>
        </p:nvPicPr>
        <p:blipFill>
          <a:blip r:embed="rId7"/>
          <a:srcRect l="41554" t="42838" r="52201" b="49932"/>
          <a:stretch/>
        </p:blipFill>
        <p:spPr>
          <a:xfrm>
            <a:off x="5638680" y="3798720"/>
            <a:ext cx="752760" cy="695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" descr=""/>
          <p:cNvPicPr/>
          <p:nvPr/>
        </p:nvPicPr>
        <p:blipFill>
          <a:blip r:embed="rId8"/>
          <a:srcRect l="13196" t="42694" r="80674" b="50076"/>
          <a:stretch/>
        </p:blipFill>
        <p:spPr>
          <a:xfrm>
            <a:off x="6858000" y="3786120"/>
            <a:ext cx="685800" cy="663480"/>
          </a:xfrm>
          <a:prstGeom prst="rect">
            <a:avLst/>
          </a:prstGeom>
          <a:ln w="0">
            <a:noFill/>
          </a:ln>
        </p:spPr>
      </p:pic>
      <p:pic>
        <p:nvPicPr>
          <p:cNvPr id="476" name="basketballGameImage" descr="gameBasketball"/>
          <p:cNvPicPr/>
          <p:nvPr/>
        </p:nvPicPr>
        <p:blipFill>
          <a:blip r:embed="rId9"/>
          <a:stretch/>
        </p:blipFill>
        <p:spPr>
          <a:xfrm>
            <a:off x="8020080" y="3809880"/>
            <a:ext cx="590400" cy="5907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" descr=""/>
          <p:cNvPicPr/>
          <p:nvPr/>
        </p:nvPicPr>
        <p:blipFill>
          <a:blip r:embed="rId10"/>
          <a:srcRect l="70142" t="34880" r="23728" b="58469"/>
          <a:stretch/>
        </p:blipFill>
        <p:spPr>
          <a:xfrm>
            <a:off x="819000" y="3809880"/>
            <a:ext cx="638280" cy="561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Study Island to help motivate stud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 bulletin board to track student/class progr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 students to reflect on what they’ve learn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Study Island in Game Mode to introduce a less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intable Worksheets to create activities in cla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 certificates of achievement to stude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ent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Implementation@StudyIslan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more ideas to motivate stude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1560" indent="-1965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nodeType="clickEffect" fill="hold">
                      <p:stCondLst>
                        <p:cond delay="0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77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3" dur="77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5" dur="77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7" dur="77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1" dur="8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2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8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1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10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7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9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otivating Stud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some of these ideas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1" name="Picture 4" descr="SI 90% club certificate.png"/>
          <p:cNvPicPr/>
          <p:nvPr/>
        </p:nvPicPr>
        <p:blipFill>
          <a:blip r:embed="rId1"/>
          <a:stretch/>
        </p:blipFill>
        <p:spPr>
          <a:xfrm>
            <a:off x="5791320" y="1295280"/>
            <a:ext cx="3206520" cy="20955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82" name="Picture 6" descr="southedmonsonsurvivor.jpg"/>
          <p:cNvPicPr/>
          <p:nvPr/>
        </p:nvPicPr>
        <p:blipFill>
          <a:blip r:embed="rId2"/>
          <a:stretch/>
        </p:blipFill>
        <p:spPr>
          <a:xfrm>
            <a:off x="533520" y="1981080"/>
            <a:ext cx="3430440" cy="26085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83" name="Picture 3" descr="KreitnerES. IL. caterpillar bulletin board1.jpg"/>
          <p:cNvPicPr/>
          <p:nvPr/>
        </p:nvPicPr>
        <p:blipFill>
          <a:blip r:embed="rId3"/>
          <a:stretch/>
        </p:blipFill>
        <p:spPr>
          <a:xfrm>
            <a:off x="4952880" y="3200400"/>
            <a:ext cx="3654720" cy="2444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84" name="Picture 5" descr="SI achievement certificate.PNG"/>
          <p:cNvPicPr/>
          <p:nvPr/>
        </p:nvPicPr>
        <p:blipFill>
          <a:blip r:embed="rId4"/>
          <a:stretch/>
        </p:blipFill>
        <p:spPr>
          <a:xfrm>
            <a:off x="1447920" y="4114800"/>
            <a:ext cx="3767040" cy="2460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0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4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77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1" dur="770" fill="hold"/>
                                        <p:tgtEl>
                                          <p:spTgt spid="4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3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5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What if I forget all of thi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eck out the HELP tab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ch Tutorials, download Documents, and find year-round implementation ide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6400800" y="2057400"/>
            <a:ext cx="1990800" cy="20952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488" name="Oval 10"/>
          <p:cNvSpPr/>
          <p:nvPr/>
        </p:nvSpPr>
        <p:spPr>
          <a:xfrm>
            <a:off x="6324480" y="2057400"/>
            <a:ext cx="6098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8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4505400" cy="3095640"/>
          </a:xfrm>
          <a:prstGeom prst="rect">
            <a:avLst/>
          </a:prstGeom>
          <a:ln w="0">
            <a:noFill/>
          </a:ln>
        </p:spPr>
      </p:pic>
      <p:sp>
        <p:nvSpPr>
          <p:cNvPr id="490" name="Up Arrow 9"/>
          <p:cNvSpPr/>
          <p:nvPr/>
        </p:nvSpPr>
        <p:spPr>
          <a:xfrm rot="19065600">
            <a:off x="3701880" y="4711680"/>
            <a:ext cx="384480" cy="50976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25532E-006 L 0.2658 -0.00185 E">
                                      <p:cBhvr>
                                        <p:cTn id="1959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8 -0.00185 L 0.2658 0.23127 E">
                                      <p:cBhvr>
                                        <p:cTn id="1962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67053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Key Benefits for Teacher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b-base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ccess Study Island ANYWHERE from the internet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al Time Repor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utomatic grading for instantaneous feedback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iagnostic reports to better differentiate instruction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ssage Cen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e with students and teachers easi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Explosion 1 4"/>
          <p:cNvSpPr/>
          <p:nvPr/>
        </p:nvSpPr>
        <p:spPr>
          <a:xfrm rot="550800">
            <a:off x="6221160" y="4566960"/>
            <a:ext cx="2873160" cy="8398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Recently Enhanc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xplosion 1 5"/>
          <p:cNvSpPr/>
          <p:nvPr/>
        </p:nvSpPr>
        <p:spPr>
          <a:xfrm rot="520200">
            <a:off x="6541920" y="2916000"/>
            <a:ext cx="2384640" cy="10461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ew Addi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What if I forget all of thi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udy Island Support is here to help!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3" name="Picture 1" descr=""/>
          <p:cNvPicPr/>
          <p:nvPr/>
        </p:nvPicPr>
        <p:blipFill>
          <a:blip r:embed="rId1"/>
          <a:stretch/>
        </p:blipFill>
        <p:spPr>
          <a:xfrm>
            <a:off x="8077320" y="5562720"/>
            <a:ext cx="904680" cy="1092240"/>
          </a:xfrm>
          <a:prstGeom prst="rect">
            <a:avLst/>
          </a:prstGeom>
          <a:ln w="0">
            <a:noFill/>
          </a:ln>
        </p:spPr>
      </p:pic>
      <p:sp>
        <p:nvSpPr>
          <p:cNvPr id="494" name="TextBox 4"/>
          <p:cNvSpPr/>
          <p:nvPr/>
        </p:nvSpPr>
        <p:spPr>
          <a:xfrm>
            <a:off x="2971800" y="2971800"/>
            <a:ext cx="3505320" cy="143460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800.419.3191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"/>
          <p:cNvSpPr/>
          <p:nvPr/>
        </p:nvSpPr>
        <p:spPr>
          <a:xfrm>
            <a:off x="1219320" y="4648320"/>
            <a:ext cx="6858000" cy="143460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upport@StudyIsland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6" descr="Steve Award.bmp"/>
          <p:cNvPicPr/>
          <p:nvPr/>
        </p:nvPicPr>
        <p:blipFill>
          <a:blip r:embed="rId2"/>
          <a:stretch/>
        </p:blipFill>
        <p:spPr>
          <a:xfrm>
            <a:off x="666720" y="2666880"/>
            <a:ext cx="184788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nodeType="clickEffect" fill="hold">
                      <p:stCondLst>
                        <p:cond delay="0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9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In 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75248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g in at </a:t>
            </a:r>
            <a:r>
              <a:rPr b="0" lang="en-US" sz="2600" spc="-1" strike="noStrike" u="sng">
                <a:solidFill>
                  <a:srgbClr val="237dc7"/>
                </a:solidFill>
                <a:uFillTx/>
                <a:latin typeface="Calibri"/>
              </a:rPr>
              <a:t>www.StudyIsland.co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lore your Study Island progra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classes in Class Manag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 out School Sta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ember: Study Island is here to help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6" descr="C:\Documents and Settings\kimberly.witty\Local Settings\Temporary Internet Files\Content.IE5\VOEEGF6P\MCj04417060000[1].png"/>
          <p:cNvPicPr/>
          <p:nvPr/>
        </p:nvPicPr>
        <p:blipFill>
          <a:blip r:embed="rId1"/>
          <a:stretch/>
        </p:blipFill>
        <p:spPr>
          <a:xfrm>
            <a:off x="6095880" y="838080"/>
            <a:ext cx="2743200" cy="4038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C:\Documents and Settings\kimberly.witty\Local Settings\Temporary Internet Files\Content.IE5\AJH1U3KC\MCj04381310000[1].wmf"/>
          <p:cNvPicPr/>
          <p:nvPr/>
        </p:nvPicPr>
        <p:blipFill>
          <a:blip r:embed="rId2"/>
          <a:stretch/>
        </p:blipFill>
        <p:spPr>
          <a:xfrm>
            <a:off x="8001000" y="3581280"/>
            <a:ext cx="873000" cy="8146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5"/>
          <p:cNvSpPr/>
          <p:nvPr/>
        </p:nvSpPr>
        <p:spPr>
          <a:xfrm>
            <a:off x="1066680" y="4876920"/>
            <a:ext cx="6324840" cy="1134720"/>
          </a:xfrm>
          <a:prstGeom prst="rect">
            <a:avLst/>
          </a:prstGeom>
          <a:solidFill>
            <a:srgbClr val="dbf5f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00.419.3191 x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Support@StudyIsland.com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Steve Award.bmp"/>
          <p:cNvPicPr/>
          <p:nvPr/>
        </p:nvPicPr>
        <p:blipFill>
          <a:blip r:embed="rId4"/>
          <a:stretch/>
        </p:blipFill>
        <p:spPr>
          <a:xfrm>
            <a:off x="1371600" y="4343400"/>
            <a:ext cx="1068480" cy="10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nodeType="clickEffect" fill="hold">
                      <p:stCondLst>
                        <p:cond delay="0"/>
                      </p:stCondLst>
                      <p:childTnLst>
                        <p:par>
                          <p:cTn id="1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2.83071E-006 C 7.77778E-006 -2.83071E-006 -0.01041 -0.05365 -0.02083 -0.10731 E">
                                      <p:cBhvr>
                                        <p:cTn id="1999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-0.10731 C -0.02083 -0.10731 -0.03576 -0.15611 -0.05069 -0.20468 E">
                                      <p:cBhvr>
                                        <p:cTn id="2007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69 -0.20467 C -0.05069 -0.20467 -0.06492 -0.25046 -0.07899 -0.29625 E">
                                      <p:cBhvr>
                                        <p:cTn id="2015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99 -0.29626 C -0.07899 -0.29626 -0.10139 -0.33811 -0.12378 -0.37974 E">
                                      <p:cBhvr>
                                        <p:cTn id="202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03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4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Key Benefits for Teacher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59984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87120" indent="-8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Manag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204480" indent="-7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7854840" y="5410080"/>
            <a:ext cx="1136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Explosion 1 7"/>
          <p:cNvSpPr/>
          <p:nvPr/>
        </p:nvSpPr>
        <p:spPr>
          <a:xfrm rot="460200">
            <a:off x="6662880" y="4605480"/>
            <a:ext cx="167616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xplosion 1 9"/>
          <p:cNvSpPr/>
          <p:nvPr/>
        </p:nvSpPr>
        <p:spPr>
          <a:xfrm rot="732000">
            <a:off x="5227200" y="3674880"/>
            <a:ext cx="167652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xplosion 1 10"/>
          <p:cNvSpPr/>
          <p:nvPr/>
        </p:nvSpPr>
        <p:spPr>
          <a:xfrm rot="672600">
            <a:off x="6824520" y="2900520"/>
            <a:ext cx="1676520" cy="609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144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classes to make viewing reports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914400" y="36576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dule Parent Not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914400" y="2895480"/>
            <a:ext cx="5943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students in real-time with Live Vi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990720" y="4343400"/>
            <a:ext cx="5943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ign Study Island topics, writing promp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ustom assessmen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6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6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6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670536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Key Benefits for Teacher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stom Mater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your own topics in Study Islan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ward Winning Study Island 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ll 800.419.3191 x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mail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pport@studyisland.co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t with a live associa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Steve Award.bmp"/>
          <p:cNvPicPr/>
          <p:nvPr/>
        </p:nvPicPr>
        <p:blipFill>
          <a:blip r:embed="rId2"/>
          <a:stretch/>
        </p:blipFill>
        <p:spPr>
          <a:xfrm>
            <a:off x="5943600" y="2666880"/>
            <a:ext cx="1562040" cy="148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1219320" y="4952880"/>
            <a:ext cx="1925640" cy="685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"/>
          <p:cNvPicPr/>
          <p:nvPr/>
        </p:nvPicPr>
        <p:blipFill>
          <a:blip r:embed="rId4"/>
          <a:stretch/>
        </p:blipFill>
        <p:spPr>
          <a:xfrm>
            <a:off x="7543800" y="5035680"/>
            <a:ext cx="1447920" cy="174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Where do I start?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3520" y="17521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77040" indent="-7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 Go to </a:t>
            </a:r>
            <a:r>
              <a:rPr b="0" lang="en-US" sz="2400" spc="-1" strike="noStrike" u="sng">
                <a:solidFill>
                  <a:srgbClr val="237dc7"/>
                </a:solidFill>
                <a:uFillTx/>
                <a:latin typeface="Calibri"/>
              </a:rPr>
              <a:t>www.studyisland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77040" indent="-7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7040" indent="-77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422360" cy="198144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447920" y="2286000"/>
            <a:ext cx="2590560" cy="2014560"/>
          </a:xfrm>
          <a:prstGeom prst="rect">
            <a:avLst/>
          </a:prstGeom>
          <a:ln w="9360">
            <a:solidFill>
              <a:srgbClr val="981e32"/>
            </a:solidFill>
            <a:miter/>
          </a:ln>
        </p:spPr>
      </p:pic>
      <p:sp>
        <p:nvSpPr>
          <p:cNvPr id="231" name="TextBox 6"/>
          <p:cNvSpPr/>
          <p:nvPr/>
        </p:nvSpPr>
        <p:spPr>
          <a:xfrm>
            <a:off x="533520" y="46483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 your Username and Pass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question_mark.gif"/>
          <p:cNvPicPr/>
          <p:nvPr/>
        </p:nvPicPr>
        <p:blipFill>
          <a:blip r:embed="rId3"/>
          <a:stretch/>
        </p:blipFill>
        <p:spPr>
          <a:xfrm rot="1278600">
            <a:off x="5641920" y="1033560"/>
            <a:ext cx="188280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1752120"/>
            <a:ext cx="30477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a class in Class Mange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hedule Assign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From your Teacher Page you can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6815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Up Arrow 15"/>
          <p:cNvSpPr/>
          <p:nvPr/>
        </p:nvSpPr>
        <p:spPr>
          <a:xfrm rot="19065600">
            <a:off x="5073120" y="2502000"/>
            <a:ext cx="384480" cy="509400"/>
          </a:xfrm>
          <a:prstGeom prst="up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752120"/>
            <a:ext cx="304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iew a snapshot of favorite reports from School Sta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cess Teacher Lounge tool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e Study Island announceme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4617b"/>
                </a:solidFill>
                <a:uFillTx/>
                <a:latin typeface="Calibri"/>
              </a:rPr>
              <a:t>From your Teacher Page you can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6815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4267080" y="4834080"/>
            <a:ext cx="2286000" cy="123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6640560" y="4824360"/>
            <a:ext cx="2286000" cy="1244520"/>
          </a:xfrm>
          <a:prstGeom prst="rect">
            <a:avLst/>
          </a:prstGeom>
          <a:ln w="0">
            <a:noFill/>
          </a:ln>
        </p:spPr>
      </p:pic>
      <p:sp>
        <p:nvSpPr>
          <p:cNvPr id="242" name="Up Arrow 10"/>
          <p:cNvSpPr/>
          <p:nvPr/>
        </p:nvSpPr>
        <p:spPr>
          <a:xfrm rot="19065600">
            <a:off x="7435800" y="2501640"/>
            <a:ext cx="384120" cy="50940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008E-007 L -0.00087 0.15356 E">
                                      <p:cBhvr>
                                        <p:cTn id="28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587 0.38668 L -0.00087 0.15356 E">
                                      <p:cBhvr>
                                        <p:cTn id="290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587 0.38668 L 0.02413 0.38668 E">
                                      <p:cBhvr>
                                        <p:cTn id="29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29:03Z</dcterms:created>
  <dc:creator>elissa.nadel</dc:creator>
  <dc:description/>
  <dc:language>en-US</dc:language>
  <cp:lastModifiedBy>Laura J. Lopez</cp:lastModifiedBy>
  <dcterms:modified xsi:type="dcterms:W3CDTF">2011-05-19T18:48:02Z</dcterms:modified>
  <cp:revision>433</cp:revision>
  <dc:subject/>
  <dc:title>Slide 1</dc:title>
</cp:coreProperties>
</file>